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D916-B558-493F-9FF9-D682DD885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2FE0-00DE-47E9-BB91-71F402ED9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270D-ECB0-4C39-B90B-096A09DF7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021E-0298-4A04-B2F0-86C8C50C8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64BC-931F-4DCA-9B58-DEBD6CE76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2155-1A39-40CD-9083-2CF06E35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141-57A7-455D-BE73-27C6445F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E104-3BFE-46AA-8266-B0B74501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5AFC-5768-40CC-B737-07F9715A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996B-714D-4F10-AC62-79103641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B751-0BA3-4ED2-BB07-2E42D2F8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AE10-A660-41A7-BCAE-99D4B307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750D-2E15-43AD-989F-410142A3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4C4F-14A5-479D-9480-A8143589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69D7-1A7B-4E46-990D-44FC4593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5100-8FD2-464D-B5D5-90D6989C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8CB-0B8C-4932-838A-C32D16A1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741E-79CC-43E4-8B8A-0C296B32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742B-0ACD-4186-A8AE-C97D4335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45B7-9043-411C-989D-B9174D3D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FE76-A2EA-4853-90EE-CA856CCA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4074-6221-459A-87D8-548BDFC7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C43A-6447-4CA0-AB77-619793B1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709-B051-4BE8-B3CC-ECDE3515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681-E237-4D90-A1FE-B6A7EC86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158-29E6-4EA4-A519-0DD18135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6BF8-FA2B-4701-AED9-770E7585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CE61-B047-4A8A-8A00-B7FBC5D8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2A32-6ADC-46F5-9435-4315873F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ABED-37D1-4109-A035-63D67290D8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81A4-0A0D-48FA-9842-AA75A5698B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AUTOR-NARATOR-PERSONAJ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1066680" y="365760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reptunghi 5"/>
          <p:cNvSpPr/>
          <p:nvPr/>
        </p:nvSpPr>
        <p:spPr>
          <a:xfrm>
            <a:off x="2286000" y="41911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Cum poate literatur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ui autor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s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uenteze viata noastra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Ce inteleg prin AUTO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1600200"/>
          <a:ext cx="8077320" cy="453060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u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rea s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ă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u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învăţ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Ce inteleg prin NARATO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66680" y="2362320"/>
          <a:ext cx="7620120" cy="376848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15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u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rea s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ă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u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învăţ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Ce inteleg prin PERSONAJ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?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09480" y="1600200"/>
          <a:ext cx="8077320" cy="453060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u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rea s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ă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u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învăţ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Ce relatie/raport se poate stabili intre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AUTOR-NARATOR-PERSONAJ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14400" y="2057400"/>
          <a:ext cx="7620120" cy="376884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15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u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rea s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ă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u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învăţ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User</cp:lastModifiedBy>
  <dcterms:modified xsi:type="dcterms:W3CDTF">2011-01-14T10:09:16Z</dcterms:modified>
  <cp:revision>12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